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FD31-5684-40F0-944B-83A6760135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Лабораторная рабо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Строение растительной клетки на примере клеток кожицы чешуи лу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7AD3-6A38-4104-AAD2-D873D1ED1E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3A43-6250-4F3C-AF3B-EBF404EDF0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Образовательная тк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клетки растущих частей растения, способные к быстрому делению, формируют образовательную ткань. Такая ткань находится на верхушках побегов и кончиках корней. Благодаря быстрому делению ее клеток, стебель и корень растут в длину. Образовательная ткань внутри стеблей и корней обеспечивает их рост в тол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омашнее задание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готовиться к п/р по § </a:t>
            </a:r>
            <a:r>
              <a:rPr b="1" lang="en-US" sz="1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-4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71FF-E676-45F1-858C-3F7B3A395D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01A7-9DD2-43B8-AE32-72DDAE98CF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E8B8-26EA-4EB3-836B-17137135C8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68A9-5F5E-40FE-9871-30EC1FFCA1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рхности всех органов растения находится покровная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ающая ткань состоит из крупных, неплотно прилегающих друг к другу клеток, которые способны накапливать различные вещества в цитоплазме и вакуо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ая ткань состоит из клеток, имеющих толстые и прочные обол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ткань состоит из небольших, плотно прилегающих друг к другу клеток, способных к быстрому д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стительные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4904-1A0B-4E97-8289-2775FA73E0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47E8-F2B9-4AAA-8929-F2464CAF5E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овная ткань состоит из плотно прилегающих друг к другу клеток и выполняет защитную фун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ожицы лука плотно прилегают друг к другу и выполняют защитную функцию, ведь они находятся на поверхности чешуйки луковицы. Такая ткань называется покровной.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Покровная тка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F1D4-7E06-489C-B98B-84FD98CB02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ханическ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кани состоят из клеток, имеющих очень твердую, толстую оболочку. Поэтому и сама ткань очень прочная. Часто во взрослых клетках такой ткани уже нет цитоплазмы, а осталась только плотная оболочка. Это мертвая ткань. Помнишь, мы уже говорили об этом? Такая ткань образует кору деревьев, скорлупу орехов. Она называется опорной или механическ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5520-5537-4675-84CA-062049E41A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Запасающ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шь клетки мякоти арбуза? Они содержат много садкого клеточного сока. Когда арбуз созревает, в них накапливаются сахар и другие питательные вещества. В клетках клубня картофеля, например, накапливается крахм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21F-47F0-4BAD-8085-AB759104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C9B-87F5-4158-AEBE-718D8AA9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D20-471A-445E-A78F-C4752040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BBD-AFD0-428A-8296-7D873BF7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C8355-C30C-4443-95BB-93AB5809EF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CAF8B-A178-4C08-8814-4A3520FF47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CED5E-9D26-49BD-9731-D760756682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DCA04-EDC1-40B3-BC49-07C9E6FAF0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4EB50-C9EA-4D78-AB69-BC4B9E405E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240DF-9F4A-4D98-89BE-4EBDBE389B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8A802-592A-41CC-A86C-9E66193AF7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E89-951D-4B67-A6BA-1DFB8A40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479B4-D932-49B1-8AFE-AF0E772A05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DD041-F4E3-435A-A3D0-839B931C05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22189-6FE8-465E-9167-C4F041332B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D7598-BA2D-4986-A977-3B307BB16B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C4A51-9CCE-45BA-90A7-85C48D7568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DD150-F7FC-4B30-9C9A-9439549820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AE424-AFFC-464D-AB38-75DD041C00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B3721-64BB-4FE2-9F27-59A9DC4EE0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050BE-A837-4645-BB15-F0DD2B7AF4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1F258-74DB-48AE-A564-C3D9828F9C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5BE-C3CC-4CD7-AC61-78E9A1E3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E4BA0-294F-4847-9948-4DB7A2AD5E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76B7A-70AD-48E3-9820-4F2EACFDBC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DB850-1F5B-4B19-BF4A-C8951A4900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CDE28-A52A-4ECD-88BB-59FD77B674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ADE44-39B5-4531-80DE-BD3A157627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082ED-CA74-4DD1-84AF-65E79969AB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832EA-83BD-4A5E-AF1F-A09506CF1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B1E-A7E5-4D68-8008-B02F5562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5A8F-A7BE-4310-9B04-A70141A1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783-1D2D-4A7B-A042-937397A9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79A-FF79-460E-A95E-14440B16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E81-7BBD-4D35-970B-99982BE9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1E4-7A89-4599-AA8A-533CAB10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EED3-455C-4FC1-BDA3-752AD33C7E8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36AF-E967-43BF-9C95-6DA6C24AF9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08AF-A7E9-4916-8A24-34D5DCD5F6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1F27-E3A3-4483-813C-1C2E8CF154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3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93592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523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ткань 4"/>
          <p:cNvPicPr/>
          <p:nvPr/>
        </p:nvPicPr>
        <p:blipFill>
          <a:blip r:embed="rId2"/>
          <a:stretch/>
        </p:blipFill>
        <p:spPr>
          <a:xfrm>
            <a:off x="5500800" y="2714760"/>
            <a:ext cx="3276360" cy="3198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Картинка 6 из 37985"/>
          <p:cNvPicPr/>
          <p:nvPr/>
        </p:nvPicPr>
        <p:blipFill>
          <a:blip r:embed="rId3"/>
          <a:stretch/>
        </p:blipFill>
        <p:spPr>
          <a:xfrm>
            <a:off x="428760" y="26431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4" descr=""/>
          <p:cNvPicPr/>
          <p:nvPr/>
        </p:nvPicPr>
        <p:blipFill>
          <a:blip r:embed="rId1"/>
          <a:stretch/>
        </p:blipFill>
        <p:spPr>
          <a:xfrm>
            <a:off x="414360" y="274680"/>
            <a:ext cx="8296200" cy="4797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4954065"/>
          <p:cNvPicPr/>
          <p:nvPr/>
        </p:nvPicPr>
        <p:blipFill>
          <a:blip r:embed="rId2"/>
          <a:stretch/>
        </p:blipFill>
        <p:spPr>
          <a:xfrm>
            <a:off x="3143160" y="378612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8" descr="пластиды 1"/>
          <p:cNvPicPr/>
          <p:nvPr/>
        </p:nvPicPr>
        <p:blipFill>
          <a:blip r:embed="rId1"/>
          <a:stretch/>
        </p:blipFill>
        <p:spPr>
          <a:xfrm>
            <a:off x="2071800" y="1357200"/>
            <a:ext cx="4495680" cy="4496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36" name="Organization Chart 2"/>
          <p:cNvGrpSpPr/>
          <p:nvPr/>
        </p:nvGrpSpPr>
        <p:grpSpPr>
          <a:xfrm>
            <a:off x="431640" y="1568520"/>
            <a:ext cx="8208720" cy="2160000"/>
            <a:chOff x="431640" y="1568520"/>
            <a:chExt cx="8208720" cy="21600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1000" y="1051560"/>
              <a:ext cx="402480" cy="319284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866840" y="2115720"/>
              <a:ext cx="402480" cy="106452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803760" y="2116800"/>
              <a:ext cx="402480" cy="106236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738520" y="1051560"/>
              <a:ext cx="402480" cy="319320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3624120" y="1568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ка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4316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2" action="ppaction://hlinksldjump"/>
                </a:rPr>
                <a:t>Покров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55960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3" action="ppaction://hlinksldjump"/>
                </a:rPr>
                <a:t>Запасающ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68792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4" action="ppaction://hlinksldjump"/>
                </a:rPr>
                <a:t>Механическ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68162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5" action="ppaction://hlinksldjump"/>
                </a:rPr>
                <a:t>Образователь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4" descr="ткань 1"/>
          <p:cNvPicPr/>
          <p:nvPr/>
        </p:nvPicPr>
        <p:blipFill>
          <a:blip r:embed="rId6"/>
          <a:stretch/>
        </p:blipFill>
        <p:spPr>
          <a:xfrm>
            <a:off x="39528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ткань 2"/>
          <p:cNvPicPr/>
          <p:nvPr/>
        </p:nvPicPr>
        <p:blipFill>
          <a:blip r:embed="rId7"/>
          <a:stretch/>
        </p:blipFill>
        <p:spPr>
          <a:xfrm>
            <a:off x="253044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ткань 3"/>
          <p:cNvPicPr/>
          <p:nvPr/>
        </p:nvPicPr>
        <p:blipFill>
          <a:blip r:embed="rId8"/>
          <a:stretch/>
        </p:blipFill>
        <p:spPr>
          <a:xfrm>
            <a:off x="4667400" y="422100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ткань 4"/>
          <p:cNvPicPr/>
          <p:nvPr/>
        </p:nvPicPr>
        <p:blipFill>
          <a:blip r:embed="rId9"/>
          <a:stretch/>
        </p:blipFill>
        <p:spPr>
          <a:xfrm>
            <a:off x="680400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5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0" y="1428840"/>
          <a:ext cx="9144000" cy="3349440"/>
        </p:xfrm>
        <a:graphic>
          <a:graphicData uri="http://schemas.openxmlformats.org/drawingml/2006/table">
            <a:tbl>
              <a:tblPr/>
              <a:tblGrid>
                <a:gridCol w="2928960"/>
                <a:gridCol w="2214720"/>
                <a:gridCol w="2000160"/>
                <a:gridCol w="20001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тка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м образова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ров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ческ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ящ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4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Сердце 3"/>
          <p:cNvSpPr/>
          <p:nvPr/>
        </p:nvSpPr>
        <p:spPr>
          <a:xfrm>
            <a:off x="5857920" y="5143680"/>
            <a:ext cx="2786040" cy="1500120"/>
          </a:xfrm>
          <a:custGeom>
            <a:avLst/>
            <a:gdLst/>
            <a:ahLst/>
            <a:rect l="l" t="t" r="r" b="b"/>
            <a:pathLst>
              <a:path w="2786063" h="1500188">
                <a:moveTo>
                  <a:pt x="1393032" y="375047"/>
                </a:moveTo>
                <a:cubicBezTo>
                  <a:pt x="1973461" y="-500063"/>
                  <a:pt x="4237137" y="375047"/>
                  <a:pt x="1393032" y="1500188"/>
                </a:cubicBezTo>
                <a:cubicBezTo>
                  <a:pt x="-1451074" y="375047"/>
                  <a:pt x="812602" y="-500063"/>
                  <a:pt x="1393032" y="375047"/>
                </a:cubicBezTo>
                <a:close/>
              </a:path>
            </a:pathLst>
          </a:custGeom>
          <a:solidFill>
            <a:srgbClr val="e6b9b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429240" y="557208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. 25-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ткань 1"/>
          <p:cNvPicPr/>
          <p:nvPr/>
        </p:nvPicPr>
        <p:blipFill>
          <a:blip r:embed="rId2"/>
          <a:stretch/>
        </p:blipFill>
        <p:spPr>
          <a:xfrm>
            <a:off x="5021280" y="2995560"/>
            <a:ext cx="3193920" cy="316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лук"/>
          <p:cNvPicPr/>
          <p:nvPr/>
        </p:nvPicPr>
        <p:blipFill>
          <a:blip r:embed="rId3"/>
          <a:stretch/>
        </p:blipFill>
        <p:spPr>
          <a:xfrm>
            <a:off x="857160" y="2714760"/>
            <a:ext cx="2970360" cy="3557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ткань 3"/>
          <p:cNvPicPr/>
          <p:nvPr/>
        </p:nvPicPr>
        <p:blipFill>
          <a:blip r:embed="rId2"/>
          <a:stretch/>
        </p:blipFill>
        <p:spPr>
          <a:xfrm>
            <a:off x="5572080" y="2857680"/>
            <a:ext cx="3043440" cy="30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0194"/>
          <p:cNvPicPr/>
          <p:nvPr/>
        </p:nvPicPr>
        <p:blipFill>
          <a:blip r:embed="rId3"/>
          <a:stretch/>
        </p:blipFill>
        <p:spPr>
          <a:xfrm>
            <a:off x="571680" y="2714760"/>
            <a:ext cx="442404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ткань 2"/>
          <p:cNvPicPr/>
          <p:nvPr/>
        </p:nvPicPr>
        <p:blipFill>
          <a:blip r:embed="rId2"/>
          <a:stretch/>
        </p:blipFill>
        <p:spPr>
          <a:xfrm>
            <a:off x="5603760" y="3032280"/>
            <a:ext cx="3040200" cy="301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mg--i-17313-w-640"/>
          <p:cNvPicPr/>
          <p:nvPr/>
        </p:nvPicPr>
        <p:blipFill>
          <a:blip r:embed="rId3"/>
          <a:stretch/>
        </p:blipFill>
        <p:spPr>
          <a:xfrm>
            <a:off x="428760" y="2857680"/>
            <a:ext cx="45003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6:24:08Z</dcterms:created>
  <dc:creator>Admin</dc:creator>
  <dc:description/>
  <dc:language>en-US</dc:language>
  <cp:lastModifiedBy>LEGION</cp:lastModifiedBy>
  <dcterms:modified xsi:type="dcterms:W3CDTF">2014-11-25T09:33:12Z</dcterms:modified>
  <cp:revision>6</cp:revision>
  <dc:subject/>
  <dc:title>Лабораторная работа  «Строение растительной клетки на примере клеток кожицы чешуи лука»</dc:title>
</cp:coreProperties>
</file>